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426E-6B3C-4536-854D-C643BA374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0CA6-90C7-4516-87B2-8D1877A75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8CE2-7DCD-4B3D-98BC-CC45DA7FA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B9DC-15B9-477A-9E9C-B8BF818B2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1640" y="449712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C800-5DD9-4583-95A3-341BE462B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0DA2-23E3-47B1-A537-B34C7D103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747F-CB66-4314-9975-9F911039F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42760" y="4500720"/>
            <a:ext cx="561636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6EA2-8A4B-4CBB-AFB4-F03DB51B7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5799-0F8B-4996-BD29-2D668BA2D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7B84-2451-4A5D-8622-D557582D7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56C6-D1EC-4685-983E-9FC897E1C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FE51-9918-488E-B2C2-5A154F2F6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7218-E9DC-45A8-955A-8EA604037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F9D0-B655-439F-8DA0-058A76362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11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DC01-F1B6-4FCB-998C-A97924656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13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DDEB-736D-4C94-BFAB-06EFC1C28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2653-B0CA-40D1-A5DA-3C293AEEE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9DB-9175-402E-B50E-F3D9ED8E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551-CED9-49AC-81BB-588B74FC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8DF-88D0-436B-80FB-BA776A42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761-9554-4A6B-AC86-379F284B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C7F-076C-48BD-BD20-9C7F9C02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366-ECF7-4CC3-BE1E-9F5548D1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7C8-4F74-49CD-92F3-2EFB2437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3EC-D7A0-4F73-9BA7-4A1CD21C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7DC-8F92-47E1-917A-164B537B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1AF-1527-4327-8E6A-52A7D8CC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A02-3B12-4A01-8346-49A859BE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C769-214B-4E2E-9529-D6EDA902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D715-9AF3-447A-B990-CD8206045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Arial"/>
                <a:ea typeface="Arial"/>
              </a:rPr>
              <a:t>Phonics and Word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Literary Links 2009-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3505320" y="3429000"/>
            <a:ext cx="2438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honics I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Model how to blend the individual sounds from left to right without stopping between the so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Follow “sounding out” with a fast pronunciation of the wo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6858000" y="4419720"/>
            <a:ext cx="15667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king Ana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Helps students remember words with sounds or spelling patterns they already know and apply this knowledge to read and spell unknown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hould be explicitly mode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6858000" y="4419720"/>
            <a:ext cx="15667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king Ana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each common spelling patt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each common syllable patt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Help students use structural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3505320" y="4648320"/>
            <a:ext cx="14904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est Your Knowledge</a:t>
            </a:r>
            <a:br>
              <a:rPr sz="4000"/>
            </a:b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ell how many syllables and which syllable type for each of these wor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b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a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jo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wre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ni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reind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tructural Analys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Compound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Base (or root)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nflectional en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Prefi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uffi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6019920" y="3549600"/>
            <a:ext cx="18698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Words that should be recognized immedia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ometimes referred to as sight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ncludes both regular and irregular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3505320" y="4114800"/>
            <a:ext cx="18698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4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honics I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Teaches children the relationship between the letters (graphemes) of written language and individual sounds (phonemes) of spoken languag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6934320" y="4648320"/>
            <a:ext cx="1515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honics I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Is important because it leads to an understanding of the alphabetic principle-the systematic and predicable relationships between lett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and spoken sound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7086600" y="4876920"/>
            <a:ext cx="1515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Effective Phonics I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yst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Prescribed sequence of letter-sound i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Letter sound correspondences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taught in iso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blended into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practiced in decodable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plic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Programs provide teachers with precise directions for the teaching of letter-sound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6934320" y="2895480"/>
            <a:ext cx="15159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ystematic and Explicit Phonics Instruc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ignificantly improves kindergarten and first-grade children’s word recognition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ignificantly improves children’s reading compreh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s effective for children from various social and economic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7238880" y="5029200"/>
            <a:ext cx="1185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ystematic and Explicit Phonics Instruc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s particularly beneficial for children who are having difficulty learning to read and who are at risk for developing future reading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s most effective when introduced ea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s not an entire reading program for beginning r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7162920" y="5029200"/>
            <a:ext cx="1185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lphabetic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each the letters of the alphab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each letter-sound correspond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6858000" y="4419720"/>
            <a:ext cx="15667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honics I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each more-frequently used letters and sounds before teaching those less frequently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Begin with letter-sound correspondences that can be combined to make words students can decode and unders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ntroduce only a few letter-sound  correspondences at a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6858000" y="4419720"/>
            <a:ext cx="15667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5:19:07Z</dcterms:created>
  <dc:creator>ECSD</dc:creator>
  <dc:description/>
  <dc:language>en-US</dc:language>
  <cp:lastModifiedBy>ECSD</cp:lastModifiedBy>
  <dcterms:modified xsi:type="dcterms:W3CDTF">2010-04-16T17:24:50Z</dcterms:modified>
  <cp:revision>14</cp:revision>
  <dc:subject/>
  <dc:title>Phonics and Word Study</dc:title>
</cp:coreProperties>
</file>